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6.wmf" ContentType="image/x-wmf"/>
  <Override PartName="/ppt/media/image23.png" ContentType="image/png"/>
  <Override PartName="/ppt/media/image22.wmf" ContentType="image/x-wmf"/>
  <Override PartName="/ppt/media/image20.jpeg" ContentType="image/jpeg"/>
  <Override PartName="/ppt/media/image21.png" ContentType="image/png"/>
  <Override PartName="/ppt/media/image19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9.png" ContentType="image/png"/>
  <Override PartName="/ppt/media/image11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3.png" ContentType="image/png"/>
  <Override PartName="/ppt/media/image33.png" ContentType="image/png"/>
  <Override PartName="/ppt/media/image8.png" ContentType="image/png"/>
  <Override PartName="/ppt/media/image32.wmf" ContentType="image/x-wmf"/>
  <Override PartName="/ppt/media/image12.wmf" ContentType="image/x-wmf"/>
  <Override PartName="/ppt/media/image13.png" ContentType="image/png"/>
  <Override PartName="/ppt/media/image36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7.wmf" ContentType="image/x-wmf"/>
  <Override PartName="/ppt/media/image37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15.png" ContentType="image/png"/>
  <Override PartName="/ppt/media/image14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2.png" ContentType="image/png"/>
  <Override PartName="/ppt/media/image25.png" ContentType="image/png"/>
  <Override PartName="/ppt/media/image24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  <p:sldId id="289" r:id="rId54"/>
    <p:sldId id="290" r:id="rId55"/>
    <p:sldId id="291" r:id="rId56"/>
    <p:sldId id="292" r:id="rId57"/>
    <p:sldId id="293" r:id="rId58"/>
    <p:sldId id="294" r:id="rId59"/>
    <p:sldId id="295" r:id="rId60"/>
    <p:sldId id="296" r:id="rId61"/>
    <p:sldId id="297" r:id="rId62"/>
    <p:sldId id="298" r:id="rId63"/>
    <p:sldId id="299" r:id="rId64"/>
    <p:sldId id="300" r:id="rId65"/>
    <p:sldId id="301" r:id="rId66"/>
    <p:sldId id="302" r:id="rId67"/>
    <p:sldId id="303" r:id="rId68"/>
    <p:sldId id="304" r:id="rId69"/>
    <p:sldId id="305" r:id="rId70"/>
    <p:sldId id="306" r:id="rId71"/>
    <p:sldId id="307" r:id="rId72"/>
    <p:sldId id="308" r:id="rId73"/>
    <p:sldId id="309" r:id="rId74"/>
    <p:sldId id="310" r:id="rId75"/>
    <p:sldId id="311" r:id="rId76"/>
    <p:sldId id="312" r:id="rId77"/>
    <p:sldId id="313" r:id="rId78"/>
  </p:sldIdLst>
  <p:sldSz cx="9902825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slide" Target="slides/slide34.xml"/><Relationship Id="rId55" Type="http://schemas.openxmlformats.org/officeDocument/2006/relationships/slide" Target="slides/slide35.xml"/><Relationship Id="rId56" Type="http://schemas.openxmlformats.org/officeDocument/2006/relationships/slide" Target="slides/slide36.xml"/><Relationship Id="rId57" Type="http://schemas.openxmlformats.org/officeDocument/2006/relationships/slide" Target="slides/slide37.xml"/><Relationship Id="rId58" Type="http://schemas.openxmlformats.org/officeDocument/2006/relationships/slide" Target="slides/slide38.xml"/><Relationship Id="rId59" Type="http://schemas.openxmlformats.org/officeDocument/2006/relationships/slide" Target="slides/slide39.xml"/><Relationship Id="rId60" Type="http://schemas.openxmlformats.org/officeDocument/2006/relationships/slide" Target="slides/slide40.xml"/><Relationship Id="rId61" Type="http://schemas.openxmlformats.org/officeDocument/2006/relationships/slide" Target="slides/slide41.xml"/><Relationship Id="rId62" Type="http://schemas.openxmlformats.org/officeDocument/2006/relationships/slide" Target="slides/slide42.xml"/><Relationship Id="rId63" Type="http://schemas.openxmlformats.org/officeDocument/2006/relationships/slide" Target="slides/slide43.xml"/><Relationship Id="rId64" Type="http://schemas.openxmlformats.org/officeDocument/2006/relationships/slide" Target="slides/slide44.xml"/><Relationship Id="rId65" Type="http://schemas.openxmlformats.org/officeDocument/2006/relationships/slide" Target="slides/slide45.xml"/><Relationship Id="rId66" Type="http://schemas.openxmlformats.org/officeDocument/2006/relationships/slide" Target="slides/slide46.xml"/><Relationship Id="rId67" Type="http://schemas.openxmlformats.org/officeDocument/2006/relationships/slide" Target="slides/slide47.xml"/><Relationship Id="rId68" Type="http://schemas.openxmlformats.org/officeDocument/2006/relationships/slide" Target="slides/slide48.xml"/><Relationship Id="rId69" Type="http://schemas.openxmlformats.org/officeDocument/2006/relationships/slide" Target="slides/slide49.xml"/><Relationship Id="rId70" Type="http://schemas.openxmlformats.org/officeDocument/2006/relationships/slide" Target="slides/slide50.xml"/><Relationship Id="rId71" Type="http://schemas.openxmlformats.org/officeDocument/2006/relationships/slide" Target="slides/slide51.xml"/><Relationship Id="rId72" Type="http://schemas.openxmlformats.org/officeDocument/2006/relationships/slide" Target="slides/slide52.xml"/><Relationship Id="rId73" Type="http://schemas.openxmlformats.org/officeDocument/2006/relationships/slide" Target="slides/slide53.xml"/><Relationship Id="rId74" Type="http://schemas.openxmlformats.org/officeDocument/2006/relationships/slide" Target="slides/slide54.xml"/><Relationship Id="rId75" Type="http://schemas.openxmlformats.org/officeDocument/2006/relationships/slide" Target="slides/slide55.xml"/><Relationship Id="rId76" Type="http://schemas.openxmlformats.org/officeDocument/2006/relationships/slide" Target="slides/slide56.xml"/><Relationship Id="rId77" Type="http://schemas.openxmlformats.org/officeDocument/2006/relationships/slide" Target="slides/slide57.xml"/><Relationship Id="rId78" Type="http://schemas.openxmlformats.org/officeDocument/2006/relationships/slide" Target="slides/slide58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"/>
          <p:cNvSpPr/>
          <p:nvPr/>
        </p:nvSpPr>
        <p:spPr>
          <a:xfrm>
            <a:off x="0" y="0"/>
            <a:ext cx="67932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dt" idx="52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 type="ftr" idx="53"/>
          </p:nvPr>
        </p:nvSpPr>
        <p:spPr>
          <a:xfrm>
            <a:off x="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6"/>
          <p:cNvSpPr>
            <a:spLocks noGrp="1"/>
          </p:cNvSpPr>
          <p:nvPr>
            <p:ph type="sldNum" idx="54"/>
          </p:nvPr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5784C8-9C7A-4D2A-9EBD-7EF9FF43144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Slide Number Placeholder 3"/>
          <p:cNvSpPr/>
          <p:nvPr/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226872-4E4F-40C4-99D4-54E7B0196629}" type="slidenum">
              <a:rPr b="0" lang="en-GB" sz="1200" spc="-1" strike="noStrike">
                <a:solidFill>
                  <a:srgbClr val="8f210b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Slide Number Placeholder 3"/>
          <p:cNvSpPr/>
          <p:nvPr/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A56537-B5B4-48F2-9BE6-824EF60233F7}" type="slidenum">
              <a:rPr b="0" lang="en-GB" sz="1200" spc="-1" strike="noStrike">
                <a:solidFill>
                  <a:srgbClr val="8f210b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7B4C-D1E5-41E1-874E-30B82E446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2D45-EFC6-4AA2-8B31-4F5F76F35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C80B3A-D5F9-457B-B406-8B9722EFB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A7639C-4EA8-45E5-B35B-77806D872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9E8CA4-30DC-405C-9AC7-9025A10EF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59C358-6963-48A9-B1EC-FC0E54B8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4301ED-C5A2-47AC-ACF0-4314C1DE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CC8213-6A4B-4E2E-BD6A-6A6752A7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CC2896-8785-410A-8E35-7E2E9A268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D1E759-2A24-42E9-A35A-A84242D31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674EF-1A5C-4177-B61A-AAA4DE000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910888-232E-424E-A9DC-57813BADB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369C-4269-4B29-B680-9EFBAD90D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26F02E-0154-4541-84FE-FB14CD5BC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A2C49B-AF24-4BED-BAC0-80B6CD01C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35D917-F769-401C-A324-89F862310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05DA38-E5E7-4D05-A51E-89FF24FC4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F5BB2A-9F6B-4523-B855-97ED442AE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B35B1E-3ECB-4407-9273-FDDFCE9B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3C6ED4-7376-4519-A7B9-CACDE575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1072F6-FC42-4E6F-BE9E-216BC851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E0C1D8-F355-40AF-BA3C-2D59B34E9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3D917A-0339-4B5C-80EB-796CF6A82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04CB-0BB3-4A3B-83E6-0B44A4A72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8C9191-E995-492A-8DAC-13E4D1D51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F31F50-0F08-4BC4-9352-3E8B401F0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92E9A0-66D7-4F68-BE7F-F878A03B3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C6A125-2EDD-425A-8A76-D07F17E00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9CFC58-72A4-4C10-B436-9F1C8C0E1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98AF4D-6632-4F87-B946-0BB012396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B37B28-74D2-4E76-8414-FDF551D89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7EFF32-D71F-46A4-89C3-E35C0DEF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FA24C6-3829-4914-9979-4183488C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89CA66-45F6-407F-AF0C-8540376F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EAD042-CD34-48B6-A0D3-9E5E3FB3E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127E5A-0BD8-4B14-A694-8EAF25BA4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E746B4-1775-4778-B6BF-C78BE26F7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02F763-0966-405B-B4EF-16AC333C8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B5094B-635B-4E52-93EA-2FDF53CA7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3B62AC-67E0-4994-B4BE-25B5D2DC1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51887C-858D-42F3-B946-6CA2BBB11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3D09BF-26A9-4D80-AA5E-69CD8B0CD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A97EFC-3418-4084-B3E4-939D64ADC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9BB302-4ACE-4118-8E72-AAD5416D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6AE4DA-98CB-4C55-9E4F-D8CE453F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EA27B5-6201-45F6-BE7C-18B8EAD5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695B93-8980-41E1-8C4B-726B7F8EC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D85DE3-D490-43C1-AA21-C81C8E2A6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4E408D-A2F7-415D-A375-24E13E1F2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869240-3CD7-4330-8B50-1BC8BF648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1A858A-DC17-45DE-81F9-46A06AC5A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92354B-3F2F-4566-A021-CAB856DF0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5FE244-1014-4644-ADB6-A18709C2C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7BAD96-C419-40FD-B404-98AC5E911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9C76BB-6F82-4440-A9E2-C198E6032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799F71-90E6-4E19-955D-4201FD3D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77B39D-72A1-450B-B14B-B557D0DF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5A715B-9111-4FA9-B71D-AF4712BC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23A0A0-9DC5-4947-90D9-450FD2559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9BED48-C628-470D-97C2-C977B14B6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EAC69B-F586-4D94-99C1-9ACC8ADBF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1BBC14-436F-4669-B7F7-0BB1A2DED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430CA0-D784-4A70-81FB-005FEA2D9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EBD225-892D-4AD6-BAC2-94B3BF01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EAB764-FF5D-46DA-8D70-8CBA6A010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735CC4-B3B9-430B-A4D9-839D55E2F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E4AE87-B689-4651-9A1E-F5CB7C4D8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A981A4-5626-49B5-821A-1A25E7F5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388366-0EB1-4D98-A406-2CBFFF93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95072F-4FDF-4267-8FFB-F6464458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952B3D-EE49-496B-B24F-1415E0725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BBAF2B-1448-4E4F-8CEA-F46FA479F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B8EECC-AB20-49FD-A88A-96891801B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D81FA8-2E51-41B1-AB01-1BB5BFCC4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661A07-9047-4D18-AE87-C4C45C24E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01045C-54DD-4153-A81B-0B553C861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8FF792-F9E6-4B5B-899C-BA97FA1B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8D6F35-AD60-4BC2-BB3E-949B64187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6ED39B-F512-4D40-AADA-B41485BE4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CE0B8E-A98E-4773-B66D-746EA21C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1BA68A-09C5-4FF2-83F3-12F5CEDD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8DFD4C-CE27-4EB9-AEA3-BFFD6D58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76E03E-1157-4894-8A73-02530788F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FF276C-FD78-417D-831D-A3DBB3FCE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352AAC-613C-440A-B949-180524C92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B0FFA4-F813-4E7D-B81E-CFA23736D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B991B1-AFB2-49AA-88F9-FBEBCDAC3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55AB8E-D6E8-479C-AC85-418BAD19C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B580B4-AF2E-4634-A228-EA07D48C6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D84BD3-3ADC-441D-98F8-9F411E662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26DA9B-DA4B-475A-9034-13CF03529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BAE2E4-2DBE-4046-8F43-B4A6ED05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B8775D-9D52-417B-99E3-BF4FF812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2E6A01-8095-4245-845A-67938237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CB1CC3-A9E1-4424-B126-FC9535312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7BCDC7-40C0-47FC-B82D-D167210C4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2B4B49-31C2-49F8-922F-4AA0377CB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FAA6D0-E385-4A94-92E7-55329DD69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0035E6-0565-4B59-9770-4404D3E83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65E84A-8DBA-4892-8A51-F422964E3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C62113-0606-4958-AF39-81D33EA99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0DAC78-787D-4322-BD96-B15033932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329C71-C651-4AE9-A41F-E95104EBC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C78180-365F-481A-B374-67F16D5C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0A7B-B294-4D74-A248-8C6D68A38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1F418F-1AF4-4BBE-A23B-9B7DD013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4F43A6-1186-4E5A-92AD-C7357DF3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1DE326-99B8-4593-BA8E-04D87A5A0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7A08ED-6922-43F4-878D-0D1E0A449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EEFBE4-1F47-44E3-A142-6446C1C75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9CD334-BBB7-45D9-8076-4E97B5D19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18BE6A-1380-4FE3-B573-D31902A1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89BCDE-3807-4F8E-95DE-13717749B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57EBED-D543-4E1D-BA67-3D2CC6B97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B750CA-4CC2-4B91-BDB5-1D13802F4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9610C3-7D58-4A56-9B8C-975ECCDC6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B023FE-778E-4F8E-A973-13C7EE89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EC6464-5734-4A2D-AA66-6BBC411E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6FDFFC-A287-42B2-9769-BB1E0FB1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CF9174-FD08-42D6-A712-6EEF21ABC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6CC42D-297C-4242-B0E9-10B680F97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41449F-3A72-4F27-B2AD-1FF61172C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5D68-0CEB-4475-B383-C54C17FBB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58D6-EDDC-4B8C-B2C6-E3EC4F5AD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B5121-52B7-429B-8952-B12B3C680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F7AE-F692-4C98-9007-836276114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09DAB-0194-4A2A-B98B-1D3A45855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23808-49E1-4736-B3F4-E1F6F5493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57B22-DDFB-4D7E-98B4-72B686F25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ACE47-0B02-414A-A3AE-9F1EC24C2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31DDA-580C-4216-AB03-52B2E718B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40A86-74DD-40D9-B61A-FB84678D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CF7DA-A741-4477-AF25-81636247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93597-25FE-420E-86D6-7D56DFA8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1C06C-1391-45D6-A6F6-1BF4E0C71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A49C2-5F79-4CDE-BA7D-4DB949AA8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4676-6385-499D-9D3A-28B44513F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4FF6B-4B55-4503-829C-B49FE73E7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EFCFC-AE49-4511-8093-3200DDAF0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2D909-CD72-4D66-9557-52573338A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EB179-8534-4417-9018-8ACCD28DA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78662-07B4-4740-868D-597325AD8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D2D5B-3FF8-4C56-ADE2-F0A9341F2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11FA2-960C-4921-8EA4-F1EAD893B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4AC26-1BE5-4D84-9FB8-D9E49D77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6EE86-54C4-4772-AE1E-72456AA1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2F427-0951-4AB9-A0D9-C3270571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8595-0447-4625-A393-47BB5C23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D5D1C-0DE1-4E00-889F-9429111F3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23E0F-6D0E-43D7-BB9F-493680274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53267-2E95-413E-AD93-AC9A4B677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32A71-CE1D-45B8-AE2C-81DD8A9B6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9ABB3-74F1-4785-90A4-C15A56A92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0A4AD-3458-4F1C-A0BA-4B663ADA5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70F99-401A-40FF-A91A-6C1361CCD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91C9C-563A-45C8-96F4-BCBBFC96D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52161-C6C9-478E-974D-214F5DF0C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A1978-7692-4A9E-9C20-73EFC924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3EC6-CF04-4D7F-BC45-FC8B0730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2064D-854C-413A-BA65-ADE695DF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ED4FC-D775-4457-AD43-6DB4D411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397D9-2396-4491-A0BF-5F4EB1381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01149D-3247-4878-BADD-5F04B928E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1C81F-5711-40B9-8D3F-F90F592A4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3488BC-B55B-40BE-9288-CA990EDF9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2C913-7670-4027-89F3-98769C0FF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4E38D-9955-46E4-A342-BCDCE13EF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70BFE-D02A-4F8A-8579-CC7BD023D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8CE31D-4C92-4127-BA63-0C2AC237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085D-CF32-4240-9CBE-1D5DAD22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09A91D-44CD-4807-B8DB-8947A606D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21C0A8-0105-4F7C-B180-7F2B0098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9CA7A1-093D-4B08-B30A-67064CAB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51EAA-961F-4BC9-B10F-6E3C4107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9F1DA-5349-4B5C-84B6-29AAAF0D5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E7F23-9D44-44C6-9711-6AB16EA4F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1F6A7-E634-4BE5-8069-AE25576A4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FAD5C2-8542-44EF-B459-2EBE28EFB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FDAC16-FED1-4730-8895-01219B186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4C5E4-EEE8-4149-8B4D-C84F1FA72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1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2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35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25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26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27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9E569-160D-4A11-A5BD-FC5DF4DB5AAE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7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7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93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2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2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30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57108-08E1-4E3D-AB8E-A488361B7F16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3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651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3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3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3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A0F9-3230-4828-860E-E7E71B7B88BF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9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09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dt" idx="3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ftr" idx="3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 type="sldNum" idx="36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5857E-9AF1-4ED2-8649-7087F97364FE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1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752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3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4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5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6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7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8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9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0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1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2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3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4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5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6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67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dt" idx="37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ftr" idx="38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 type="sldNum" idx="39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F5CEC-C919-4C7F-90FC-641ADDFEDA0A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1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25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4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4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4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F13D0-9CD0-47E9-B439-21681D8A301C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6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6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83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 type="dt" idx="4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 type="ftr" idx="4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 type="sldNum" idx="4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314F1-F2CB-4B14-A927-13F2570D52A9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2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41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 type="dt" idx="4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 type="ftr" idx="4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 type="sldNum" idx="4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85BE-19AB-47A6-9E0D-7C9BCAAC490F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8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99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 type="dt" idx="4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 type="ftr" idx="5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 type="sldNum" idx="5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FA60B-9B46-4745-BA17-30492FB7F3DF}" type="slidenum">
              <a:rPr b="0" lang="en-GB" sz="1000" spc="-1" strike="noStrike">
                <a:solidFill>
                  <a:srgbClr val="8f210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4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1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31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7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88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3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45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F3AF1-B062-4270-ABA4-72B6130B9019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8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8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03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B4633-CA39-4469-BA81-A83AE1462416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34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61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1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1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1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40DE4-C1D9-4870-9C0D-178B3F6AA8BA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0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19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1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6FC0-D1F1-4755-B23A-0ED45593D266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62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3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4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5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6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7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8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9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0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1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2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3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4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5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6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77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22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3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24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828F6-2CA8-4683-AA9D-4C019E08A00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9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9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9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9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9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9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9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4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BinomialConfidence" TargetMode="External"/><Relationship Id="rId2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kappa" TargetMode="External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4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4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hyperlink" Target="http://imaging.mrc-cbu.cam.ac.uk/statswiki/FAQ/BinomialConfidence/2gpp" TargetMode="External"/><Relationship Id="rId3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9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9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4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7017E-E383-4646-A563-E835E15DDA3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990720" y="2438280"/>
            <a:ext cx="84168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</a:t>
            </a: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 </a:t>
            </a:r>
            <a:br>
              <a:rPr sz="3600"/>
            </a:br>
            <a:r>
              <a:rPr b="0" lang="en-GB" sz="3600" spc="-1" strike="noStrike">
                <a:solidFill>
                  <a:srgbClr val="8f210b"/>
                </a:solidFill>
                <a:latin typeface="Albertus Medium"/>
              </a:rPr>
              <a:t>Graduate Statistics Course 2019</a:t>
            </a:r>
            <a:br>
              <a:rPr sz="3600"/>
            </a:br>
            <a:r>
              <a:rPr b="0" lang="en-US" sz="1800" spc="-1" strike="noStrike">
                <a:solidFill>
                  <a:srgbClr val="515f7b"/>
                </a:solidFill>
                <a:latin typeface="Verdana"/>
              </a:rPr>
              <a:t>http://imaging.mrc-cbu.cam.ac.uk/statswiki/StatsCourse2019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F82F8-3879-45A4-95F8-5137C792DB4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s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bservations are classified according to some sche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numbers of observations falling into each category of the classification are called the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9E353-124D-4AE1-ABF9-674EEAD90E9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isual Field Deficit Problems in Hemiplegic Patien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02" name="Picture 4" descr=""/>
          <p:cNvPicPr/>
          <p:nvPr/>
        </p:nvPicPr>
        <p:blipFill>
          <a:blip r:embed="rId1"/>
          <a:stretch/>
        </p:blipFill>
        <p:spPr>
          <a:xfrm>
            <a:off x="3943440" y="1844640"/>
            <a:ext cx="34369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4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5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BBAAC-23C0-47EB-8C73-13FFD629F3B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07" name="Line 10"/>
          <p:cNvSpPr/>
          <p:nvPr/>
        </p:nvSpPr>
        <p:spPr>
          <a:xfrm flipH="1" flipV="1">
            <a:off x="6436800" y="2895120"/>
            <a:ext cx="90828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95360" y="2133720"/>
            <a:ext cx="536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ut the variable that holds the category information into the Variables(s) bo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ess OK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09" name="Picture 14" descr=""/>
          <p:cNvPicPr/>
          <p:nvPr/>
        </p:nvPicPr>
        <p:blipFill>
          <a:blip r:embed="rId1"/>
          <a:stretch/>
        </p:blipFill>
        <p:spPr>
          <a:xfrm>
            <a:off x="5611680" y="2362320"/>
            <a:ext cx="41259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BD836-6782-450C-AFFD-BB9939B9327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14" name="Picture 4" descr=""/>
          <p:cNvPicPr/>
          <p:nvPr/>
        </p:nvPicPr>
        <p:blipFill>
          <a:blip r:embed="rId1"/>
          <a:stretch/>
        </p:blipFill>
        <p:spPr>
          <a:xfrm>
            <a:off x="1155600" y="1981080"/>
            <a:ext cx="841716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1A9A9-713B-4D5B-B9C5-33C4C4339B1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Bar ch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ing ‘Bar Chart’ from the ‘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arts’ options gives you a graphic which you can cut and past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0" name="Picture 10" descr=""/>
          <p:cNvPicPr/>
          <p:nvPr/>
        </p:nvPicPr>
        <p:blipFill>
          <a:blip r:embed="rId1"/>
          <a:stretch/>
        </p:blipFill>
        <p:spPr>
          <a:xfrm>
            <a:off x="5199120" y="2057400"/>
            <a:ext cx="412596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45F42-B2BF-4262-AF59-952198E2740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tingency Table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	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329760" y="2017800"/>
            <a:ext cx="50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tems are classified by two or more classifications simultaneous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.g.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ide of Damag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and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everity of Visual Field Defici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rosstab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Side of Damage’ and ‘Visual Field Deficit’ to define the row/column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6" name="Picture 4" descr=""/>
          <p:cNvPicPr/>
          <p:nvPr/>
        </p:nvPicPr>
        <p:blipFill>
          <a:blip r:embed="rId1"/>
          <a:stretch/>
        </p:blipFill>
        <p:spPr>
          <a:xfrm>
            <a:off x="5599080" y="2205000"/>
            <a:ext cx="41259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10764-1C6F-4734-A184-A1D46F19E9B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1" name="Picture 4" descr=""/>
          <p:cNvPicPr/>
          <p:nvPr/>
        </p:nvPicPr>
        <p:blipFill>
          <a:blip r:embed="rId1"/>
          <a:stretch/>
        </p:blipFill>
        <p:spPr>
          <a:xfrm>
            <a:off x="1155600" y="2286000"/>
            <a:ext cx="8417160" cy="2262240"/>
          </a:xfrm>
          <a:prstGeom prst="rect">
            <a:avLst/>
          </a:prstGeom>
          <a:ln w="0">
            <a:noFill/>
          </a:ln>
        </p:spPr>
      </p:pic>
      <p:sp>
        <p:nvSpPr>
          <p:cNvPr id="1132" name="Text Box 6"/>
          <p:cNvSpPr/>
          <p:nvPr/>
        </p:nvSpPr>
        <p:spPr>
          <a:xfrm>
            <a:off x="1238400" y="487692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looks as if there may be more VFD in RBD than in LB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4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5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39DE5-DD5A-47B6-BB15-9C18C5968B9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nalysing a frequency table directly from the 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1"/>
          <a:stretch/>
        </p:blipFill>
        <p:spPr>
          <a:xfrm>
            <a:off x="4951440" y="1981080"/>
            <a:ext cx="4125960" cy="4114800"/>
          </a:xfrm>
          <a:prstGeom prst="rect">
            <a:avLst/>
          </a:prstGeom>
          <a:ln w="0">
            <a:noFill/>
          </a:ln>
        </p:spPr>
      </p:pic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577440" y="2133360"/>
            <a:ext cx="41259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Sometimes the observations have already been aggregated into frequenci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nter the frequencies for each cells of the table, identified by the levels of the classifying factors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.g. Lexical Decis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Type: {1 = Word , 2 = Nonword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Outcome: {1 = ‘Word’ , 2 = ‘Nonword’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y count for response ‘Word’ to Word items is 8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ies are stored in the variable called ‘freq’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0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1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00169-D503-457B-8416-83C3028DB08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Weight Cases’ to analys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43" name="Picture 3" descr=""/>
          <p:cNvPicPr/>
          <p:nvPr/>
        </p:nvPicPr>
        <p:blipFill>
          <a:blip r:embed="rId1"/>
          <a:stretch/>
        </p:blipFill>
        <p:spPr>
          <a:xfrm>
            <a:off x="4621320" y="2057400"/>
            <a:ext cx="4125960" cy="1417680"/>
          </a:xfrm>
          <a:prstGeom prst="rect">
            <a:avLst/>
          </a:prstGeom>
          <a:ln w="0">
            <a:noFill/>
          </a:ln>
        </p:spPr>
      </p:pic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659880" y="2286000"/>
            <a:ext cx="4125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variable ‘freq’ contains the frequencie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520D9-B2F5-4646-A3FC-1079CB82040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Crosstabs’ to  generat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660240" y="2286000"/>
            <a:ext cx="4368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ross-classification by ‘typ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Stimulus = {Word, Non-word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d by ‘outcom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esponse = {‘Word’, Non-word’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50" name="Picture 6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2908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647A8-C0DB-4B0E-8B94-8ED9B846B91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4: Categorical Data Analysi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6" name="Text Box 1029"/>
          <p:cNvSpPr/>
          <p:nvPr/>
        </p:nvSpPr>
        <p:spPr>
          <a:xfrm>
            <a:off x="1320840" y="2362320"/>
            <a:ext cx="8169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f210b"/>
                </a:solidFill>
                <a:latin typeface="Albertus Medium"/>
              </a:rPr>
              <a:t>Categorical Data, Contingency Tables and the Pearson Chi-Squared Statistic</a:t>
            </a:r>
            <a:endParaRPr b="0" lang="en-US" sz="3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7" name="Text Box 1030"/>
          <p:cNvSpPr/>
          <p:nvPr/>
        </p:nvSpPr>
        <p:spPr>
          <a:xfrm>
            <a:off x="1486080" y="3505320"/>
            <a:ext cx="7839000" cy="27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25 October 2018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cd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140CB-86F1-403B-B77A-AED8A6E8674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mple use of SPSS 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55" name="Picture 3" descr=""/>
          <p:cNvPicPr/>
          <p:nvPr/>
        </p:nvPicPr>
        <p:blipFill>
          <a:blip r:embed="rId1"/>
          <a:stretch/>
        </p:blipFill>
        <p:spPr>
          <a:xfrm>
            <a:off x="5281560" y="2590920"/>
            <a:ext cx="3979800" cy="1463400"/>
          </a:xfrm>
          <a:prstGeom prst="rect">
            <a:avLst/>
          </a:prstGeom>
          <a:ln w="0">
            <a:noFill/>
          </a:ln>
        </p:spPr>
      </p:pic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77440" y="213372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ord recognition looks quite good (8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Non-word rejection is low (5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6D740-B336-47F1-A93C-62D09ABBEAC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Goodness-of-Fit Chi-squared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ppose we have a Theor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.e. a ‘model’ that predicts the expected frequencies (E) in each categ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actually observe the frequencies (O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measure how good a fit the data are to the theory by the formula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= </a:t>
            </a:r>
            <a:r>
              <a:rPr b="0" lang="en-US" sz="3200" spc="-1" strike="noStrike">
                <a:solidFill>
                  <a:srgbClr val="8f210b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O-E)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/E where the sum is over all th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is called Pearson’s Chi-Squared Statist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77522-F166-4E83-871C-03DFF23CEED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ifica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arge values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uggest the model doesn’t fit the data wel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leads to Goodness-of-fit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look at the value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see whether it is unusually large by reference to a </a:t>
            </a:r>
            <a:r>
              <a:rPr b="0" lang="en-US" sz="36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38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-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istribution with k-1 degrees-of-freedom where k is the number of categories in the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9636F-79B7-4492-B314-9513DB415E5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Degrees of Freedom’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 elusive concept that occurs throughout statistics. In essence it means the number of independent pieces of information in a sample relevant to the estimation of some parameters or calculation of a statisti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or example in a two-by-two contingency table with a given set of marginal totals only 1 of the cells at a time is ‘free’ -- once it is specified all the others are determined -- and the table thus has a single degree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important point here is we can only interpret X</a:t>
            </a:r>
            <a:r>
              <a:rPr b="0" lang="en-US" sz="2000" spc="-1" strike="noStrike" baseline="4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f we also know its degrees of freedom, as we see later when we look at the chi-squared distribution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4AB1B-5EED-4D8F-A052-294A68D1C99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Degrees of Freedom = 1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76" name=""/>
          <p:cNvGraphicFramePr/>
          <p:nvPr/>
        </p:nvGraphicFramePr>
        <p:xfrm>
          <a:off x="1281240" y="2017800"/>
          <a:ext cx="8416800" cy="4114800"/>
        </p:xfrm>
        <a:graphic>
          <a:graphicData uri="http://schemas.openxmlformats.org/drawingml/2006/table">
            <a:tbl>
              <a:tblPr/>
              <a:tblGrid>
                <a:gridCol w="2805120"/>
                <a:gridCol w="2806560"/>
                <a:gridCol w="2805120"/>
              </a:tblGrid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3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-3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3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2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61347-8A86-4C5A-8E66-CFF5FD36D7D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Degrees of Freedom = 4 (#rows-1) times (#cols -1)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81" name=""/>
          <p:cNvGraphicFramePr/>
          <p:nvPr/>
        </p:nvGraphicFramePr>
        <p:xfrm>
          <a:off x="487440" y="2017800"/>
          <a:ext cx="9210600" cy="4114800"/>
        </p:xfrm>
        <a:graphic>
          <a:graphicData uri="http://schemas.openxmlformats.org/drawingml/2006/table">
            <a:tbl>
              <a:tblPr/>
              <a:tblGrid>
                <a:gridCol w="2303280"/>
                <a:gridCol w="2301840"/>
                <a:gridCol w="2303640"/>
                <a:gridCol w="2301840"/>
              </a:tblGrid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-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u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2-x-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7-y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+y+u+v-9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3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2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2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11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3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4A0C-94D4-4740-8E7B-866B31CE11F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olman, Ritchie and Kalish (1946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41324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ce learning in ra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1187" name="Group 1062"/>
          <p:cNvGrpSpPr/>
          <p:nvPr/>
        </p:nvGrpSpPr>
        <p:grpSpPr>
          <a:xfrm>
            <a:off x="914400" y="2971800"/>
            <a:ext cx="3341880" cy="3263760"/>
            <a:chOff x="914400" y="2971800"/>
            <a:chExt cx="3341880" cy="3263760"/>
          </a:xfrm>
        </p:grpSpPr>
        <p:grpSp>
          <p:nvGrpSpPr>
            <p:cNvPr id="1188" name="Group 1058"/>
            <p:cNvGrpSpPr/>
            <p:nvPr/>
          </p:nvGrpSpPr>
          <p:grpSpPr>
            <a:xfrm>
              <a:off x="914400" y="2971800"/>
              <a:ext cx="3341880" cy="2819160"/>
              <a:chOff x="914400" y="2971800"/>
              <a:chExt cx="3341880" cy="2819160"/>
            </a:xfrm>
          </p:grpSpPr>
          <p:sp>
            <p:nvSpPr>
              <p:cNvPr id="1189" name="Oval 1033"/>
              <p:cNvSpPr/>
              <p:nvPr/>
            </p:nvSpPr>
            <p:spPr>
              <a:xfrm>
                <a:off x="914400" y="4267080"/>
                <a:ext cx="1447920" cy="1523880"/>
              </a:xfrm>
              <a:prstGeom prst="ellipse">
                <a:avLst/>
              </a:pr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0" name="AutoShape 1034"/>
              <p:cNvSpPr/>
              <p:nvPr/>
            </p:nvSpPr>
            <p:spPr>
              <a:xfrm>
                <a:off x="1524240" y="2971800"/>
                <a:ext cx="1904760" cy="1295280"/>
              </a:xfrm>
              <a:custGeom>
                <a:avLst/>
                <a:gdLst>
                  <a:gd name="textAreaLeft" fmla="*/ 1095120 w 1904760"/>
                  <a:gd name="textAreaRight" fmla="*/ 1841400 w 1904760"/>
                  <a:gd name="textAreaTop" fmla="*/ 290520 h 1295280"/>
                  <a:gd name="textAreaBottom" fmla="*/ 438120 h 129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8078" y="0"/>
                    </a:lnTo>
                    <a:lnTo>
                      <a:pt x="18078" y="4846"/>
                    </a:lnTo>
                    <a:lnTo>
                      <a:pt x="12427" y="4846"/>
                    </a:lnTo>
                    <a:cubicBezTo>
                      <a:pt x="5564" y="4846"/>
                      <a:pt x="0" y="8120"/>
                      <a:pt x="0" y="12158"/>
                    </a:cubicBezTo>
                    <a:lnTo>
                      <a:pt x="0" y="21600"/>
                    </a:lnTo>
                    <a:lnTo>
                      <a:pt x="2521" y="21600"/>
                    </a:lnTo>
                    <a:lnTo>
                      <a:pt x="2521" y="12158"/>
                    </a:lnTo>
                    <a:cubicBezTo>
                      <a:pt x="2521" y="9482"/>
                      <a:pt x="6956" y="7312"/>
                      <a:pt x="12427" y="7312"/>
                    </a:cubicBezTo>
                    <a:lnTo>
                      <a:pt x="18078" y="7312"/>
                    </a:lnTo>
                    <a:lnTo>
                      <a:pt x="18078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1" name="Text Box 1035"/>
              <p:cNvSpPr/>
              <p:nvPr/>
            </p:nvSpPr>
            <p:spPr>
              <a:xfrm>
                <a:off x="3094560" y="3047760"/>
                <a:ext cx="1161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f210b"/>
                    </a:solidFill>
                    <a:latin typeface="Albertus Medium"/>
                  </a:rPr>
                  <a:t>Food</a:t>
                </a: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2" name="Text Box 1057"/>
              <p:cNvSpPr/>
              <p:nvPr/>
            </p:nvSpPr>
            <p:spPr>
              <a:xfrm>
                <a:off x="1467000" y="320040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A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</p:grpSp>
        <p:sp>
          <p:nvSpPr>
            <p:cNvPr id="1193" name="Text Box 1060"/>
            <p:cNvSpPr/>
            <p:nvPr/>
          </p:nvSpPr>
          <p:spPr>
            <a:xfrm>
              <a:off x="2142000" y="5715000"/>
              <a:ext cx="162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buClr>
                  <a:srgbClr val="a3ce82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f210b"/>
                  </a:solidFill>
                  <a:latin typeface="Albertus Medium"/>
                </a:rPr>
                <a:t>Phase 1</a:t>
              </a: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grpSp>
        <p:nvGrpSpPr>
          <p:cNvPr id="1194" name="Group 1067"/>
          <p:cNvGrpSpPr/>
          <p:nvPr/>
        </p:nvGrpSpPr>
        <p:grpSpPr>
          <a:xfrm>
            <a:off x="4469760" y="2590920"/>
            <a:ext cx="5128200" cy="3582720"/>
            <a:chOff x="4469760" y="2590920"/>
            <a:chExt cx="5128200" cy="3582720"/>
          </a:xfrm>
        </p:grpSpPr>
        <p:grpSp>
          <p:nvGrpSpPr>
            <p:cNvPr id="1195" name="Group 1064"/>
            <p:cNvGrpSpPr/>
            <p:nvPr/>
          </p:nvGrpSpPr>
          <p:grpSpPr>
            <a:xfrm>
              <a:off x="4572000" y="2590920"/>
              <a:ext cx="5025960" cy="3582720"/>
              <a:chOff x="4572000" y="2590920"/>
              <a:chExt cx="5025960" cy="3582720"/>
            </a:xfrm>
          </p:grpSpPr>
          <p:sp>
            <p:nvSpPr>
              <p:cNvPr id="1196" name="Text Box 1046"/>
              <p:cNvSpPr/>
              <p:nvPr/>
            </p:nvSpPr>
            <p:spPr>
              <a:xfrm>
                <a:off x="7696080" y="3886200"/>
                <a:ext cx="1901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D: New alley to original food source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grpSp>
            <p:nvGrpSpPr>
              <p:cNvPr id="1197" name="Group 1063"/>
              <p:cNvGrpSpPr/>
              <p:nvPr/>
            </p:nvGrpSpPr>
            <p:grpSpPr>
              <a:xfrm>
                <a:off x="4572000" y="2590920"/>
                <a:ext cx="3798720" cy="3582720"/>
                <a:chOff x="4572000" y="2590920"/>
                <a:chExt cx="3798720" cy="3582720"/>
              </a:xfrm>
            </p:grpSpPr>
            <p:grpSp>
              <p:nvGrpSpPr>
                <p:cNvPr id="1198" name="Group 1059"/>
                <p:cNvGrpSpPr/>
                <p:nvPr/>
              </p:nvGrpSpPr>
              <p:grpSpPr>
                <a:xfrm>
                  <a:off x="4572000" y="2590920"/>
                  <a:ext cx="3798720" cy="3352680"/>
                  <a:chOff x="4572000" y="2590920"/>
                  <a:chExt cx="3798720" cy="3352680"/>
                </a:xfrm>
              </p:grpSpPr>
              <p:sp>
                <p:nvSpPr>
                  <p:cNvPr id="1199" name="Oval 1038"/>
                  <p:cNvSpPr/>
                  <p:nvPr/>
                </p:nvSpPr>
                <p:spPr>
                  <a:xfrm>
                    <a:off x="4876560" y="4419720"/>
                    <a:ext cx="1447920" cy="1523880"/>
                  </a:xfrm>
                  <a:prstGeom prst="ellipse">
                    <a:avLst/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0" name="AutoShape 1040"/>
                  <p:cNvSpPr/>
                  <p:nvPr/>
                </p:nvSpPr>
                <p:spPr>
                  <a:xfrm rot="20100000">
                    <a:off x="4952520" y="3809880"/>
                    <a:ext cx="380880" cy="762120"/>
                  </a:xfrm>
                  <a:prstGeom prst="upArrow">
                    <a:avLst>
                      <a:gd name="adj1" fmla="val 46259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1" name="AutoShape 1041"/>
                  <p:cNvSpPr/>
                  <p:nvPr/>
                </p:nvSpPr>
                <p:spPr>
                  <a:xfrm rot="1500000">
                    <a:off x="5943600" y="38095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2" name="AutoShape 1042"/>
                  <p:cNvSpPr/>
                  <p:nvPr/>
                </p:nvSpPr>
                <p:spPr>
                  <a:xfrm>
                    <a:off x="5467320" y="37051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3" name="AutoShape 1043"/>
                  <p:cNvSpPr/>
                  <p:nvPr/>
                </p:nvSpPr>
                <p:spPr>
                  <a:xfrm rot="2700000">
                    <a:off x="6666840" y="3086280"/>
                    <a:ext cx="457200" cy="2057400"/>
                  </a:xfrm>
                  <a:prstGeom prst="upArrow">
                    <a:avLst>
                      <a:gd name="adj1" fmla="val 50000"/>
                      <a:gd name="adj2" fmla="val 11250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4" name="Text Box 1045"/>
                  <p:cNvSpPr/>
                  <p:nvPr/>
                </p:nvSpPr>
                <p:spPr>
                  <a:xfrm>
                    <a:off x="7209000" y="3352680"/>
                    <a:ext cx="1161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Food</a:t>
                    </a: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5" name="Text Box 1047"/>
                  <p:cNvSpPr/>
                  <p:nvPr/>
                </p:nvSpPr>
                <p:spPr>
                  <a:xfrm>
                    <a:off x="5505480" y="3276720"/>
                    <a:ext cx="326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A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6" name="Text Box 1048"/>
                  <p:cNvSpPr/>
                  <p:nvPr/>
                </p:nvSpPr>
                <p:spPr>
                  <a:xfrm>
                    <a:off x="6103080" y="3505320"/>
                    <a:ext cx="3254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C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7" name="Text Box 1049"/>
                  <p:cNvSpPr/>
                  <p:nvPr/>
                </p:nvSpPr>
                <p:spPr>
                  <a:xfrm>
                    <a:off x="4572000" y="3505320"/>
                    <a:ext cx="460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8" name="Text Box 1052"/>
                  <p:cNvSpPr/>
                  <p:nvPr/>
                </p:nvSpPr>
                <p:spPr>
                  <a:xfrm>
                    <a:off x="7465680" y="3048120"/>
                    <a:ext cx="3484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9" name="Line 1053"/>
                  <p:cNvSpPr/>
                  <p:nvPr/>
                </p:nvSpPr>
                <p:spPr>
                  <a:xfrm flipH="1" flipV="1">
                    <a:off x="7009920" y="4114800"/>
                    <a:ext cx="68580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10" name="Text Box 1054"/>
                  <p:cNvSpPr/>
                  <p:nvPr/>
                </p:nvSpPr>
                <p:spPr>
                  <a:xfrm>
                    <a:off x="5140800" y="2590920"/>
                    <a:ext cx="10296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locke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11" name="Line 1056"/>
                  <p:cNvSpPr/>
                  <p:nvPr/>
                </p:nvSpPr>
                <p:spPr>
                  <a:xfrm>
                    <a:off x="5410080" y="2895480"/>
                    <a:ext cx="228600" cy="838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</p:grpSp>
            <p:sp>
              <p:nvSpPr>
                <p:cNvPr id="1212" name="Text Box 1061"/>
                <p:cNvSpPr/>
                <p:nvPr/>
              </p:nvSpPr>
              <p:spPr>
                <a:xfrm>
                  <a:off x="6210720" y="5653080"/>
                  <a:ext cx="162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00"/>
                    </a:spcBef>
                    <a:buClr>
                      <a:srgbClr val="a3ce82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f210b"/>
                      </a:solidFill>
                      <a:latin typeface="Albertus Medium"/>
                    </a:rPr>
                    <a:t>Phase 2</a:t>
                  </a:r>
                  <a:endParaRPr b="0" lang="en-US" sz="2800" spc="-1" strike="noStrike">
                    <a:solidFill>
                      <a:srgbClr val="8f210b"/>
                    </a:solidFill>
                    <a:latin typeface="Albertus Medium"/>
                  </a:endParaRPr>
                </a:p>
              </p:txBody>
            </p:sp>
          </p:grpSp>
        </p:grpSp>
        <p:sp>
          <p:nvSpPr>
            <p:cNvPr id="1213" name="Text Box 1065"/>
            <p:cNvSpPr/>
            <p:nvPr/>
          </p:nvSpPr>
          <p:spPr>
            <a:xfrm>
              <a:off x="4469760" y="31860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4" name="Text Box 1066"/>
            <p:cNvSpPr/>
            <p:nvPr/>
          </p:nvSpPr>
          <p:spPr>
            <a:xfrm>
              <a:off x="5954040" y="32004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F0A63-C3BA-4D35-A388-6223C9D7724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Goodness of Fit Test by han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1280880" y="3123720"/>
            <a:ext cx="812628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olman, Ritchie and Kalish (1946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=(4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8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1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 = 9.2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e 95% percentile of the 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(3) distribution is 7.82 (from table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 &lt; 0.0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xact P = 0.026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499"/>
              </a:spcBef>
              <a:spcAft>
                <a:spcPts val="499"/>
              </a:spcAft>
              <a:buClr>
                <a:srgbClr val="a3dc96"/>
              </a:buClr>
              <a:buSzPct val="50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f210b"/>
                </a:solidFill>
                <a:latin typeface="Albertus Medium"/>
              </a:rPr>
              <a:t>Via MATLAB: 1-chi2cdf(9.25,3)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We reject the Null Hypothesis that Alleys are chosen equiprobably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220" name="Object 1030"/>
          <p:cNvGraphicFramePr/>
          <p:nvPr/>
        </p:nvGraphicFramePr>
        <p:xfrm>
          <a:off x="1733400" y="1981080"/>
          <a:ext cx="4125960" cy="248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1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3400" y="1981080"/>
                    <a:ext cx="4125960" cy="24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C0B0B-2764-43DB-A9AC-583662E27A6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lley’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1,2,3,4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hoices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4,5,8,1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27" name="Picture 1031" descr=""/>
          <p:cNvPicPr/>
          <p:nvPr/>
        </p:nvPicPr>
        <p:blipFill>
          <a:blip r:embed="rId1"/>
          <a:stretch/>
        </p:blipFill>
        <p:spPr>
          <a:xfrm>
            <a:off x="5694480" y="2133720"/>
            <a:ext cx="31874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22683-71C8-4550-B3BC-A59B095BD55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ive the alleys lab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1 = ‘A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2 = ‘B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3" name="Picture 5" descr=""/>
          <p:cNvPicPr/>
          <p:nvPr/>
        </p:nvPicPr>
        <p:blipFill>
          <a:blip r:embed="rId1"/>
          <a:stretch/>
        </p:blipFill>
        <p:spPr>
          <a:xfrm>
            <a:off x="6024600" y="2209680"/>
            <a:ext cx="270180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2E4DB-F6D4-46BB-B0E3-A2D446AEC76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The Naming of P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ategorical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requency Tab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Goodness-of-Fit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Distribu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Binomial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test for associ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son, Cohen and McNema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B95E8-A1A6-4933-ACC9-8B0DE89A00C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choices’ as this contains the frequency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9" name="Picture 1030" descr=""/>
          <p:cNvPicPr/>
          <p:nvPr/>
        </p:nvPicPr>
        <p:blipFill>
          <a:blip r:embed="rId1"/>
          <a:stretch/>
        </p:blipFill>
        <p:spPr>
          <a:xfrm>
            <a:off x="5364000" y="2514600"/>
            <a:ext cx="397044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1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2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56C56-B2A2-43B4-8A23-8F023549F3E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hi-squar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hypothetical probabiliti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 the expected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45" name="Picture 5" descr=""/>
          <p:cNvPicPr/>
          <p:nvPr/>
        </p:nvPicPr>
        <p:blipFill>
          <a:blip r:embed="rId1"/>
          <a:stretch/>
        </p:blipFill>
        <p:spPr>
          <a:xfrm>
            <a:off x="4951440" y="1371600"/>
            <a:ext cx="4019400" cy="2327400"/>
          </a:xfrm>
          <a:prstGeom prst="rect">
            <a:avLst/>
          </a:prstGeom>
          <a:ln w="0">
            <a:noFill/>
          </a:ln>
        </p:spPr>
      </p:pic>
      <p:pic>
        <p:nvPicPr>
          <p:cNvPr id="1246" name="Picture 6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501336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F5F77-16C6-4C37-9BA6-D1E1162DBC4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from Chi-Square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51" name="Rectangle 4"/>
          <p:cNvSpPr/>
          <p:nvPr/>
        </p:nvSpPr>
        <p:spPr>
          <a:xfrm>
            <a:off x="2313360" y="198108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-Square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52" name="Picture 5" descr=""/>
          <p:cNvPicPr/>
          <p:nvPr/>
        </p:nvPicPr>
        <p:blipFill>
          <a:blip r:embed="rId1"/>
          <a:stretch/>
        </p:blipFill>
        <p:spPr>
          <a:xfrm>
            <a:off x="2394000" y="2590920"/>
            <a:ext cx="3870360" cy="1636560"/>
          </a:xfrm>
          <a:prstGeom prst="rect">
            <a:avLst/>
          </a:prstGeom>
          <a:ln w="0">
            <a:noFill/>
          </a:ln>
        </p:spPr>
      </p:pic>
      <p:pic>
        <p:nvPicPr>
          <p:cNvPr id="1253" name="Picture 6" descr=""/>
          <p:cNvPicPr/>
          <p:nvPr/>
        </p:nvPicPr>
        <p:blipFill>
          <a:blip r:embed="rId2"/>
          <a:stretch/>
        </p:blipFill>
        <p:spPr>
          <a:xfrm>
            <a:off x="2394000" y="4419720"/>
            <a:ext cx="366228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3ED75-00DE-40D6-9478-2EDC1D857D6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(</a:t>
            </a:r>
            <a:r>
              <a:rPr b="0" lang="en-US" sz="4400" spc="-1" strike="noStrike">
                <a:solidFill>
                  <a:srgbClr val="515f7b"/>
                </a:solidFill>
                <a:latin typeface="Symbol"/>
                <a:ea typeface="Symbol"/>
              </a:rPr>
              <a:t></a:t>
            </a:r>
            <a:r>
              <a:rPr b="0" lang="en-US" sz="4000" spc="-1" strike="noStrike" baseline="38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) Distribution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58" name="Picture 7" descr="chisquared"/>
          <p:cNvPicPr/>
          <p:nvPr/>
        </p:nvPicPr>
        <p:blipFill>
          <a:blip r:embed="rId1"/>
          <a:stretch/>
        </p:blipFill>
        <p:spPr>
          <a:xfrm>
            <a:off x="4703760" y="2057400"/>
            <a:ext cx="5010120" cy="3429000"/>
          </a:xfrm>
          <a:prstGeom prst="rect">
            <a:avLst/>
          </a:prstGeom>
          <a:ln w="0">
            <a:noFill/>
          </a:ln>
        </p:spPr>
      </p:pic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hape determined by ‘degrees of freedom’ (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J-shaped for df = 1 or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nimodal for df &gt;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ode = df - 2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 = df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F90C3-1153-4B45-B4ED-C983BFCEDFF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 performance and 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a multiple choice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-alternative forced choice (2AF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p(error) =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AFC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0.25, p(error) = 0.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as the subject just guessing when she got 14/20 in a 2AFC tes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DA3CE-51F0-4153-8519-8EFBCF1547C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12920" y="213372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Binomial Tes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70" name="Picture 5" descr=""/>
          <p:cNvPicPr/>
          <p:nvPr/>
        </p:nvPicPr>
        <p:blipFill>
          <a:blip r:embed="rId1"/>
          <a:stretch/>
        </p:blipFill>
        <p:spPr>
          <a:xfrm>
            <a:off x="4869000" y="2590920"/>
            <a:ext cx="43941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2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3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59FA8-B5E8-4921-ACDA-C4CC41A7D74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of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75" name="Picture 3" descr=""/>
          <p:cNvPicPr/>
          <p:nvPr/>
        </p:nvPicPr>
        <p:blipFill>
          <a:blip r:embed="rId1"/>
          <a:stretch/>
        </p:blipFill>
        <p:spPr>
          <a:xfrm>
            <a:off x="2228760" y="2133720"/>
            <a:ext cx="6297840" cy="1261800"/>
          </a:xfrm>
          <a:prstGeom prst="rect">
            <a:avLst/>
          </a:prstGeom>
          <a:ln w="0">
            <a:noFill/>
          </a:ln>
        </p:spPr>
      </p:pic>
      <p:sp>
        <p:nvSpPr>
          <p:cNvPr id="1276" name="Text Box 4"/>
          <p:cNvSpPr/>
          <p:nvPr/>
        </p:nvSpPr>
        <p:spPr>
          <a:xfrm>
            <a:off x="1303200" y="3952800"/>
            <a:ext cx="7691400" cy="23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data (14/20) are consistent with chance performanc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nfidence interval approach can be a more informative altern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4097-ED3A-43AC-ABAD-C99E6445FC2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fidence Intervals for Binomial Proportion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1" name="Text Box 4"/>
          <p:cNvSpPr/>
          <p:nvPr/>
        </p:nvSpPr>
        <p:spPr>
          <a:xfrm>
            <a:off x="907920" y="2438280"/>
            <a:ext cx="76914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X=14, N=20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ALD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99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901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ILSON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81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855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Consistent with the P values, the Confidence Interval only </a:t>
            </a:r>
            <a:r>
              <a:rPr b="1" i="1" lang="en-US" sz="2000" spc="-1" strike="noStrike">
                <a:solidFill>
                  <a:srgbClr val="000000"/>
                </a:solidFill>
                <a:latin typeface="Albertus Medium"/>
              </a:rPr>
              <a:t>just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 includes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(Calculated using a spreadsheet available on the CBU statistics website at </a:t>
            </a:r>
            <a:r>
              <a:rPr b="1" lang="en-US" sz="1600" spc="-1" strike="noStrike" u="sng">
                <a:solidFill>
                  <a:srgbClr val="a3ce82"/>
                </a:solidFill>
                <a:uFillTx/>
                <a:latin typeface="Times New Roman"/>
                <a:hlinkClick r:id="rId1"/>
              </a:rPr>
              <a:t>http://imaging.mrc-cbu.cam.ac.uk/statswiki/FAQ/BinomialConfidence</a:t>
            </a: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. which also features a similar solution to the difference in two (in)dependent propor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FBC2C-952D-4F83-ADAF-9386A3B91A9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oah’s Ark, </a:t>
            </a: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or The World of Two by Two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arson’s Chi-square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ates’ Continuity Correc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sher’s Exact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dds and Odds Ratio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log odds and log odds ratio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nsitivity and Specific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erd Gigerenzer (2002).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Reckoning with Risk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Pengui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ignal Detection The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87" name="Picture 6" descr=""/>
          <p:cNvPicPr/>
          <p:nvPr/>
        </p:nvPicPr>
        <p:blipFill>
          <a:blip r:embed="rId1"/>
          <a:stretch/>
        </p:blipFill>
        <p:spPr>
          <a:xfrm>
            <a:off x="7467480" y="2743200"/>
            <a:ext cx="1197000" cy="18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9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0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F138C-85FC-4B97-94A4-74C96BCF20A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al Detection Theor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92" name="Picture 3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921120" cy="2654280"/>
          </a:xfrm>
          <a:prstGeom prst="rect">
            <a:avLst/>
          </a:prstGeom>
          <a:ln w="0">
            <a:noFill/>
          </a:ln>
        </p:spPr>
      </p:pic>
      <p:sp>
        <p:nvSpPr>
          <p:cNvPr id="1293" name="Text Box 4"/>
          <p:cNvSpPr/>
          <p:nvPr/>
        </p:nvSpPr>
        <p:spPr>
          <a:xfrm>
            <a:off x="457200" y="259092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Example 2a from Macmillan &amp; Creelman, 1991, p.3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94" name="Picture 5" descr=""/>
          <p:cNvPicPr/>
          <p:nvPr/>
        </p:nvPicPr>
        <p:blipFill>
          <a:blip r:embed="rId2"/>
          <a:stretch/>
        </p:blipFill>
        <p:spPr>
          <a:xfrm>
            <a:off x="1905120" y="4724280"/>
            <a:ext cx="3665520" cy="13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233E7-25E4-45F9-84AC-66C7A7EFEE0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PSS procedures that help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information about one classification at a tim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ROSSTAB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bined information about more than one classifica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HI-SQUA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paring observed frequencies with hypothetical on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BINOMI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testing whether performance differs from ‘chance’ </a:t>
            </a:r>
            <a:r>
              <a:rPr b="0" i="1" lang="en-US" sz="1400" spc="-1" strike="noStrike">
                <a:solidFill>
                  <a:srgbClr val="8f210b"/>
                </a:solidFill>
                <a:latin typeface="Albertus Medium"/>
              </a:rPr>
              <a:t>(whatever that is)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6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7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4011C-D93B-48E6-AAEB-2EE287C41E0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ensitivity and Specificit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esting for the presence of a Disease in a person from a popul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nsitivity: Probability that a Positive result means when the Disease is present - P(+|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ecificity: Probability that a person who tests Positive has the Disease – P(D|+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nfluenced by the Prevalence of the Disease in the population: P(D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See Martin Bland: An Introduction to Medical Statistic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ay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64D93-DA49-4846-AC89-B08B8FA34F2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05" name="Object 0"/>
          <p:cNvGraphicFramePr/>
          <p:nvPr/>
        </p:nvGraphicFramePr>
        <p:xfrm>
          <a:off x="3135240" y="2895480"/>
          <a:ext cx="4656240" cy="263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5240" y="2895480"/>
                    <a:ext cx="465624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7" name="Text Box 5"/>
          <p:cNvSpPr/>
          <p:nvPr/>
        </p:nvSpPr>
        <p:spPr>
          <a:xfrm>
            <a:off x="1403280" y="510552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New treatment is positively associated with recovery (Recovery rate 10.6% vs 4.8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39A9F-8004-4DCC-B2A7-D01980F17B7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13" name="Object 4"/>
          <p:cNvGraphicFramePr/>
          <p:nvPr/>
        </p:nvGraphicFramePr>
        <p:xfrm>
          <a:off x="3500280" y="2898720"/>
          <a:ext cx="4884840" cy="262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0280" y="2898720"/>
                    <a:ext cx="488484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5" name="Text Box 5"/>
          <p:cNvSpPr/>
          <p:nvPr/>
        </p:nvSpPr>
        <p:spPr>
          <a:xfrm>
            <a:off x="1403280" y="5181480"/>
            <a:ext cx="8155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gain, the New treatment is positively associated with recovery (Recovery rate 98.8% vs 67.2%)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A6EB0-005E-4073-82FB-F9E414F109A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bined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21" name="Object 4"/>
          <p:cNvGraphicFramePr/>
          <p:nvPr/>
        </p:nvGraphicFramePr>
        <p:xfrm>
          <a:off x="4381560" y="2819520"/>
          <a:ext cx="4113000" cy="311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560" y="2819520"/>
                    <a:ext cx="4113000" cy="31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3" name="Text Box 5"/>
          <p:cNvSpPr/>
          <p:nvPr/>
        </p:nvSpPr>
        <p:spPr>
          <a:xfrm>
            <a:off x="1403280" y="518148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en combined, the New treatment is negatively associated with recovery (Recovery rate 35.8% vs 57.9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5B9E4-5CF9-47B3-A248-E36D912BF8F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impson’s Paradox explaine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328" name="Object 5"/>
          <p:cNvGraphicFramePr/>
          <p:nvPr/>
        </p:nvGraphicFramePr>
        <p:xfrm>
          <a:off x="343080" y="2133720"/>
          <a:ext cx="5016240" cy="38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2133720"/>
                    <a:ext cx="501624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0" name="Text Box 7"/>
          <p:cNvSpPr/>
          <p:nvPr/>
        </p:nvSpPr>
        <p:spPr>
          <a:xfrm>
            <a:off x="5599080" y="2637000"/>
            <a:ext cx="396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end points of the in-between line are differently weighted averages of the end points of the upper and lower lin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8461-9CDF-460B-A105-D84F7283F14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agreemen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Kapp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judges rate items on the same categorical sca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ow well do they agre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Crosstabs with two classifying variable having the sam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Kappa under the Statistics op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imaging.mrc-cbu.cam.ac.uk/statswiki/FAQ/kapp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Alternative kappa (Brennan and Prediger, 198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3DA03-042F-4DDA-AA83-4A30FBDC376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1568520" y="4038480"/>
            <a:ext cx="73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% Agreement is 21/30 = 70% but could be high due to cha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41" name="Picture 5" descr=""/>
          <p:cNvPicPr/>
          <p:nvPr/>
        </p:nvPicPr>
        <p:blipFill>
          <a:blip r:embed="rId1"/>
          <a:stretch/>
        </p:blipFill>
        <p:spPr>
          <a:xfrm>
            <a:off x="3135240" y="2057400"/>
            <a:ext cx="4127400" cy="1490760"/>
          </a:xfrm>
          <a:prstGeom prst="rect">
            <a:avLst/>
          </a:prstGeom>
          <a:ln w="0">
            <a:noFill/>
          </a:ln>
        </p:spPr>
      </p:pic>
      <p:sp>
        <p:nvSpPr>
          <p:cNvPr id="1342" name="Oval 6"/>
          <p:cNvSpPr/>
          <p:nvPr/>
        </p:nvSpPr>
        <p:spPr>
          <a:xfrm>
            <a:off x="8915400" y="1219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3" name="Oval 7"/>
          <p:cNvSpPr/>
          <p:nvPr/>
        </p:nvSpPr>
        <p:spPr>
          <a:xfrm>
            <a:off x="5045040" y="28432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4" name="Oval 8"/>
          <p:cNvSpPr/>
          <p:nvPr/>
        </p:nvSpPr>
        <p:spPr>
          <a:xfrm>
            <a:off x="5646600" y="298764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5" name="Oval 9"/>
          <p:cNvSpPr/>
          <p:nvPr/>
        </p:nvSpPr>
        <p:spPr>
          <a:xfrm>
            <a:off x="6248520" y="3124080"/>
            <a:ext cx="152280" cy="1526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567BC-E28F-4D8E-875A-41E9C836978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-corrected 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50" name="Picture 6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5305680" cy="1360440"/>
          </a:xfrm>
          <a:prstGeom prst="rect">
            <a:avLst/>
          </a:prstGeom>
          <a:ln w="0">
            <a:noFill/>
          </a:ln>
        </p:spPr>
      </p:pic>
      <p:sp>
        <p:nvSpPr>
          <p:cNvPr id="1351" name="Text Box 7"/>
          <p:cNvSpPr/>
          <p:nvPr/>
        </p:nvSpPr>
        <p:spPr>
          <a:xfrm>
            <a:off x="495360" y="4876920"/>
            <a:ext cx="818676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ohen’s Kappa (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= 0.473) is chance-corrected: 47.3%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reement between the judges is well above chance, but is it good enough?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6E287-29E1-45FA-B35D-18724160E3C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chang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1320840" y="1980720"/>
            <a:ext cx="841680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patient with acquired dyslexia does a 40 item picture naming task twice at a 6 month interv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7" name="Rectangle 5"/>
          <p:cNvSpPr/>
          <p:nvPr/>
        </p:nvSpPr>
        <p:spPr>
          <a:xfrm>
            <a:off x="1403280" y="4836960"/>
            <a:ext cx="8417160" cy="14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ccuracy falls from 19/40 to 11/4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s this a real deterioration, noting that 28/40 items show no change across the two test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58" name="Picture 6" descr=""/>
          <p:cNvPicPr/>
          <p:nvPr/>
        </p:nvPicPr>
        <p:blipFill>
          <a:blip r:embed="rId1"/>
          <a:stretch/>
        </p:blipFill>
        <p:spPr>
          <a:xfrm>
            <a:off x="3382920" y="3352680"/>
            <a:ext cx="3565440" cy="1463760"/>
          </a:xfrm>
          <a:prstGeom prst="rect">
            <a:avLst/>
          </a:prstGeom>
          <a:ln w="0">
            <a:noFill/>
          </a:ln>
        </p:spPr>
      </p:pic>
      <p:sp>
        <p:nvSpPr>
          <p:cNvPr id="1359" name="Oval 7"/>
          <p:cNvSpPr/>
          <p:nvPr/>
        </p:nvSpPr>
        <p:spPr>
          <a:xfrm>
            <a:off x="5073480" y="417528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0" name="Oval 8"/>
          <p:cNvSpPr/>
          <p:nvPr/>
        </p:nvSpPr>
        <p:spPr>
          <a:xfrm>
            <a:off x="5765760" y="43354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9F6E1-40F7-499C-8097-BBCAB4E4849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4825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is is specifically designed for this type of hypothesi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quivalent to a Binomial Test (with p=0.5) of Freq(Correct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rror) vs. Freq(Error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Correct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In this case 10 vs. 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66" name="Picture 4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951360" cy="2838240"/>
          </a:xfrm>
          <a:prstGeom prst="rect">
            <a:avLst/>
          </a:prstGeom>
          <a:ln w="0">
            <a:noFill/>
          </a:ln>
        </p:spPr>
      </p:pic>
      <p:pic>
        <p:nvPicPr>
          <p:cNvPr id="1367" name="Picture 5" descr=""/>
          <p:cNvPicPr/>
          <p:nvPr/>
        </p:nvPicPr>
        <p:blipFill>
          <a:blip r:embed="rId2"/>
          <a:stretch/>
        </p:blipFill>
        <p:spPr>
          <a:xfrm>
            <a:off x="1066680" y="4191120"/>
            <a:ext cx="3565800" cy="1463400"/>
          </a:xfrm>
          <a:prstGeom prst="rect">
            <a:avLst/>
          </a:prstGeom>
          <a:ln w="0">
            <a:noFill/>
          </a:ln>
        </p:spPr>
      </p:pic>
      <p:sp>
        <p:nvSpPr>
          <p:cNvPr id="1368" name="Oval 7"/>
          <p:cNvSpPr/>
          <p:nvPr/>
        </p:nvSpPr>
        <p:spPr>
          <a:xfrm>
            <a:off x="3405240" y="49687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9" name="Oval 8"/>
          <p:cNvSpPr/>
          <p:nvPr/>
        </p:nvSpPr>
        <p:spPr>
          <a:xfrm>
            <a:off x="2717640" y="51325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06FC6-F5CF-452E-ADF2-9A30479CF54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nt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umerical measurements or cou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ntinuous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Reaction time, BOLD signal, EEG signal,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iscrete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ole numbers, like numbers of errors, marks in an exam …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C2138-A8E7-4381-A75F-A69F014FC24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12560" y="1981080"/>
            <a:ext cx="482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this case we can assert that there is evidence of deterior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75" name="Picture 6" descr=""/>
          <p:cNvPicPr/>
          <p:nvPr/>
        </p:nvPicPr>
        <p:blipFill>
          <a:blip r:embed="rId1"/>
          <a:stretch/>
        </p:blipFill>
        <p:spPr>
          <a:xfrm>
            <a:off x="5281560" y="2057400"/>
            <a:ext cx="4446720" cy="1289160"/>
          </a:xfrm>
          <a:prstGeom prst="rect">
            <a:avLst/>
          </a:prstGeom>
          <a:ln w="0">
            <a:noFill/>
          </a:ln>
        </p:spPr>
      </p:pic>
      <p:sp>
        <p:nvSpPr>
          <p:cNvPr id="1376" name="Rectangle 7"/>
          <p:cNvSpPr/>
          <p:nvPr/>
        </p:nvSpPr>
        <p:spPr>
          <a:xfrm>
            <a:off x="271440" y="4076640"/>
            <a:ext cx="8612280" cy="18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obtain confidence intervals for the difference in proportions: </a:t>
            </a:r>
            <a:r>
              <a:rPr b="0" lang="en-GB" sz="2000" spc="-1" strike="noStrike" u="sng">
                <a:solidFill>
                  <a:srgbClr val="a3ce82"/>
                </a:solidFill>
                <a:uFillTx/>
                <a:latin typeface="Albertus Medium"/>
                <a:hlinkClick r:id="rId2"/>
              </a:rPr>
              <a:t>http://imaging.mrc-cbu.cam.ac.uk/statswiki/FAQ/BinomialConfidence/2gp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lso McNemar-Bowker tests for changes in times in a k x k table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5D675-C53C-4C36-839C-1B07B7D2CB2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hi-squared test of associ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paring two or more classified sampl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esting whether the frequencies for one classification depend on the category of another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nly to be used when the numbers in the cells are frequencies, never with proportions, percentages or measureme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52B84-4C4B-43FF-B645-C39E2FEFB52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12920" y="22096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s Side of Lesion associated with Sex of Patien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Frequencies and then ‘Chi-square’ and ‘Phi’ under Statistics, and  ‘Exact’ under Exact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87" name="Picture 5" descr=""/>
          <p:cNvPicPr/>
          <p:nvPr/>
        </p:nvPicPr>
        <p:blipFill>
          <a:blip r:embed="rId1"/>
          <a:stretch/>
        </p:blipFill>
        <p:spPr>
          <a:xfrm>
            <a:off x="4869000" y="2286000"/>
            <a:ext cx="495144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C024B-D5C9-4D38-918F-88DB6C31812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Output ...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329760" y="3962160"/>
            <a:ext cx="41259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any above-chance association between Sex and Side of Les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93" name="Picture 5" descr=""/>
          <p:cNvPicPr/>
          <p:nvPr/>
        </p:nvPicPr>
        <p:blipFill>
          <a:blip r:embed="rId1"/>
          <a:stretch/>
        </p:blipFill>
        <p:spPr>
          <a:xfrm>
            <a:off x="3630600" y="1905120"/>
            <a:ext cx="6083280" cy="2157120"/>
          </a:xfrm>
          <a:prstGeom prst="rect">
            <a:avLst/>
          </a:prstGeom>
          <a:ln w="0">
            <a:noFill/>
          </a:ln>
        </p:spPr>
      </p:pic>
      <p:pic>
        <p:nvPicPr>
          <p:cNvPr id="1394" name="Picture 6" descr=""/>
          <p:cNvPicPr/>
          <p:nvPr/>
        </p:nvPicPr>
        <p:blipFill>
          <a:blip r:embed="rId2"/>
          <a:stretch/>
        </p:blipFill>
        <p:spPr>
          <a:xfrm>
            <a:off x="4621320" y="4114800"/>
            <a:ext cx="4811760" cy="1646280"/>
          </a:xfrm>
          <a:prstGeom prst="rect">
            <a:avLst/>
          </a:prstGeom>
          <a:ln w="0">
            <a:noFill/>
          </a:ln>
        </p:spPr>
      </p:pic>
      <p:sp>
        <p:nvSpPr>
          <p:cNvPr id="1395" name="Rectangle 7"/>
          <p:cNvSpPr/>
          <p:nvPr/>
        </p:nvSpPr>
        <p:spPr>
          <a:xfrm>
            <a:off x="382680" y="5734080"/>
            <a:ext cx="9007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derive confidence intervals for difference in proportio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inomialConfidence/2g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2D73A-9A51-414B-AD2F-CA7E1AA8E75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Larger tabl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wo way tables can be analysed the same wa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ree- (or more)  way classifications need a more analytical approach such as Log Linear Modelling, available with the Loglinear procedure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825A0-21E2-4A41-AD51-BEFF0240CDA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 3 x 3 Examp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05" name="Picture 5" descr=""/>
          <p:cNvPicPr/>
          <p:nvPr/>
        </p:nvPicPr>
        <p:blipFill>
          <a:blip r:embed="rId1"/>
          <a:stretch/>
        </p:blipFill>
        <p:spPr>
          <a:xfrm>
            <a:off x="247680" y="1981080"/>
            <a:ext cx="5010120" cy="1636920"/>
          </a:xfrm>
          <a:prstGeom prst="rect">
            <a:avLst/>
          </a:prstGeom>
          <a:ln w="0">
            <a:noFill/>
          </a:ln>
        </p:spPr>
      </p:pic>
      <p:pic>
        <p:nvPicPr>
          <p:cNvPr id="1406" name="Picture 6" descr=""/>
          <p:cNvPicPr/>
          <p:nvPr/>
        </p:nvPicPr>
        <p:blipFill>
          <a:blip r:embed="rId2"/>
          <a:stretch/>
        </p:blipFill>
        <p:spPr>
          <a:xfrm>
            <a:off x="5199120" y="2057400"/>
            <a:ext cx="3960720" cy="1920960"/>
          </a:xfrm>
          <a:prstGeom prst="rect">
            <a:avLst/>
          </a:prstGeom>
          <a:ln w="0">
            <a:noFill/>
          </a:ln>
        </p:spPr>
      </p:pic>
      <p:pic>
        <p:nvPicPr>
          <p:cNvPr id="1407" name="Picture 7" descr=""/>
          <p:cNvPicPr/>
          <p:nvPr/>
        </p:nvPicPr>
        <p:blipFill>
          <a:blip r:embed="rId3"/>
          <a:stretch/>
        </p:blipFill>
        <p:spPr>
          <a:xfrm>
            <a:off x="2146320" y="4267080"/>
            <a:ext cx="465300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C78B-97FE-449E-B4C5-C317E375F95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ooling of data can mislead, or even violate the assumptions of the tests (cf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imp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ach individual observation is supposed to be independent of the othe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 pooling multiple observations across a group of subjects will typically violate this rul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needs to be handled using either summary measures (e.g. Log Odds), Generalised Linear Mixed Models or Matched Pairs: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MatchedPai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9A1AF-F2FE-4E7D-AF0D-C0F28A1DC26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is conventional to be cautious if there are low  Expected values in any cell (e.g. E&lt;5)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research suggest this is overcautious, though use of Fisher’s Exact Test is recommended in the general case. Campbell (2007) however suggests (N-1/N) x chi-square for 2x2 tables with Expected Values &gt; 1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lternatively one can amalgamate across two or more categori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E069B-8AC1-4733-8883-01CF8DD5D5E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ext week at 11am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OVA of balanced multi-factorial designs: between subject designs, and single subject studies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                                                                                             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1F70B-D710-4AAA-807F-2153BBF2C95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l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dinal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3DCE5-474D-4AA7-ABA8-4503B7CB2EA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ominal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descriptive lab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utcome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rror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orrect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x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Fe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B1C72-55EC-49B5-AA0F-F57F24B91BD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From ICD-10: Chapter V: Mental and behavioural disorders</a:t>
            </a:r>
            <a:br>
              <a:rPr sz="2000"/>
            </a:br>
            <a:r>
              <a:rPr b="0" lang="en-US" sz="1400" spc="-1" strike="noStrike">
                <a:solidFill>
                  <a:srgbClr val="515f7b"/>
                </a:solidFill>
                <a:latin typeface="Albertus Medium"/>
              </a:rPr>
              <a:t>(International Statistical Classification of Diseases and Related Health Problems)</a:t>
            </a:r>
            <a:endParaRPr b="0" lang="en-US" sz="1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00-F99 - Mental and behaviour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-F09) Organic, including symptomatic, ment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.) Dementia in Alzheimer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) Vascular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1) Multi-infarct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) Dementia in other diseases classified elsewher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0) Dementia in Pick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1) Dementia in Creutzfeldt-Jakob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2) Dementia in Huntingt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3) Dementia in Parkins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4) Dementia in human immunodeficiency virus (HIV)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3.) Unspecified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4.) Organic amnesic syndrome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5.) Delirium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6.) Other mental disorders due to brain damage and dysfunction and to physical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7.) Personality and behavioural disorders due to brain disease, damage and dysfunc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9.) Unspecified organic or symptomatic mental disorder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08B65-C245-4FFD-B486-1460346B92E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rdinal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ranged in an ord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ating scal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ndorsement of a statement: {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Neutral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Dis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disagre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g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e Group: {20+ to 30, 30+ to 40, 40+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osi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Birth order: {1st, 2nd, 3rd, 4th, ...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arget position: {Left, Central, Right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rial block: {1st, 2nd, 3rd, …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4-10-20T13:39:49Z</cp:lastPrinted>
  <dcterms:modified xsi:type="dcterms:W3CDTF">2019-08-06T10:47:20Z</dcterms:modified>
  <cp:revision>122</cp:revision>
  <dc:subject/>
  <dc:title>Aims and Objectives</dc:title>
</cp:coreProperties>
</file>